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9A65-21C1-4DBF-ABFE-7FB3F364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E85D-84C3-4468-8351-08B05024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7807-4020-4A8C-A8B1-8BF16702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485F-E4D5-4AE5-A10B-7F6F9E0E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969F-A78C-4A5C-9891-B163A749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590-2EB5-4861-80D9-0686D8A3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245-4E1A-4A29-8FEB-004408DB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2309-2DF8-4618-A084-58635833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6476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6340-3A71-476A-BB40-F676F9EE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30E9-127B-4961-829E-6B702B1F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DA63-B96A-4AC6-ABCB-2FF5A2F9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20FB-3A76-4EE4-BEC1-EA024721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65F2-1BC7-4988-9577-FE12344D3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4920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Pristina"/>
              </a:rPr>
              <a:t>Persuasion, Social Influence, and Compliance Gai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21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205200"/>
            <a:ext cx="82296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What are some other words for persuasion? Name at least thre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o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il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l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205200"/>
            <a:ext cx="82296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Draw the preliminary model of persuasion and discuss the differences between its par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ure persuas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ear cut cases of persuasion (e.g., TV ad, debate, editor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orderline persua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ases that are “on the line” in terms of persuasion (e.g., non-verbal behav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81480" y="1905120"/>
            <a:ext cx="3276720" cy="32763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2666880"/>
            <a:ext cx="1828800" cy="1828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154476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There are five basic criteria for limiting what persuasion is.  These are intentionality, effects, degree of free choice or free will, symbolic action, and interpersonal vs. intrapersonal.   Describe each criter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the persuasion involves a conscious effort at influencing the 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persuasion has taken place in the absence of someone being persu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 of free choice or free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persuasion is coercive or non-coerc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ic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tent to which persuasion is 1-channel symbolic expression (language, text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ersonal vs. intra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tent to which persuasion is 1 versus 2 or more people (or sour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Diagram and explain the enhanced model of persua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limiting criterion to elaborate on the preliminary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487656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221472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The chapter discussed three types of goals as a contextual factor in persuasion.  They are self-presentational goals, relational goals, and instrumental goals.   Describe each and their connection to pure persuasion and/or borderline persuas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presentational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identit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lated to borderline persu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al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what people want out of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lated to borderline persu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mental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lated to pure persu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21472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Other contextual factors discussed in the chapter are number of communicators, synchronous/asynchronous, ratio of verbal/non-verbal, mediation, and sociocultural factors.  Pick one and explain the constraints it has on the options available to persuader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commun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ous (real time) versus asynchronous (back and for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 of verbal to non-verbal cues (e.g., words versus im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ted (computers, TV) versus unmediated (face to f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-directed versus not (all communication has some go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221472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) Gass and Seiter (1999) state that “[o]ur position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most, or all, human communication is just persuasion.”  Explain what the authors mean by this statement, including examples of human communication and its study to support your answe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ly all human communication is potentially persuasion, but not all of it is persua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l depends on the degree of persuasive ingredients in the message (e.g., limiting crite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tinuum of persuasion could be shown b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-&gt; borderline -&gt; pure persua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1209960"/>
            <a:ext cx="8229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) Petty and Caciopp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aboration Likelihood Model of Persua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ulates two routes to persuasion that operate in tandem.  Explain how this model wor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rou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cognitive elaboration, or thinking about and analyzing the content of a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pheral rou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focusing on cues not directly relevant to the substance of the message (e.g., catchy jingle, attractiveness of sour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9:48:00Z</dcterms:created>
  <dc:creator>nuhs</dc:creator>
  <dc:description/>
  <dc:language>en-US</dc:language>
  <cp:lastModifiedBy>nuhs</cp:lastModifiedBy>
  <dcterms:modified xsi:type="dcterms:W3CDTF">2007-09-21T17:10:23Z</dcterms:modified>
  <cp:revision>6</cp:revision>
  <dc:subject/>
  <dc:title>Persuasion, Social Influence, and Compliance Gaining</dc:title>
</cp:coreProperties>
</file>